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7885-7F67-4A5F-9B35-CBA1CDE2A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455B-9A60-4DCD-9D77-495999B3C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901E-330C-4D3E-BB98-DAB68638C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F6A9-BA5A-45A7-BF8A-64A5FB509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FBBC0-0A9A-45F2-AD91-DEAF9193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47378-F127-4AD8-A377-381A1E45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64044-3EE3-4C95-8009-02895C09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302FD-52ED-4C47-AEC3-20BF2ED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D0259-A44D-4F82-955B-7898635D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EDF8E-EDF7-4990-A8E2-0C631B78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0B9AE-A8DE-4FEF-B227-1958A92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6F73-4173-43DB-8AAE-57B5CA9A3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B1F93-F1BE-46EF-850F-73AD98FF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A3762-E222-4EE4-9FA8-E49A555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95070-B05C-41E8-98A5-ADAEDC55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BC531-1A75-4A4E-947B-CAD52D5D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C857-AD9A-45A0-9AAB-9EC63C24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A26A-3A1F-4026-AC2A-364683C70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A381C-A438-4596-AA71-2A342E468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651F-D72D-4B25-AEB7-5E0497DDA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213B-4004-4401-9564-7442DAA5C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C5B1-7134-495F-89B0-D1D3899CF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1820-EA49-4B68-82B5-B4C0FCFAB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BDAF-37B1-4079-BDB6-B4DF3F464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B0E9-51C2-4DCA-9AA6-F4E2D3569D6E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3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C22-9865-4F18-BDD3-4018042D419D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0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ndara"/>
              </a:rPr>
              <a:t>Б16</a:t>
            </a:r>
            <a:r>
              <a:rPr b="1" lang="sr-Latn-R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- Фармакологија 1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</a:t>
            </a:r>
            <a:r>
              <a:rPr b="1" lang="sr-Latn-CS" sz="2500" spc="-1" strike="noStrike">
                <a:solidFill>
                  <a:srgbClr val="cc0000"/>
                </a:solidFill>
                <a:latin typeface="Candara"/>
              </a:rPr>
              <a:t>11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3640" y="3500280"/>
            <a:ext cx="84978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Candara"/>
              </a:rPr>
              <a:t>СРЧАНА ИНСУФИЦИЈЕНЦИЈА</a:t>
            </a:r>
            <a:endParaRPr b="0" lang="en-US" sz="38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Candara"/>
              </a:rPr>
              <a:t>Проф</a:t>
            </a:r>
            <a:r>
              <a:rPr b="1" lang="sr-Latn-CS" sz="2900" spc="-1" strike="noStrike">
                <a:solidFill>
                  <a:srgbClr val="cc0000"/>
                </a:solidFill>
                <a:latin typeface="Candara"/>
              </a:rPr>
              <a:t>. др Марко Фолић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ша толеранција напор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50520" indent="-326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мањ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њ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протока крви у скелетним мишићима, атроф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мишићних влакана → слабост организм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мор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свестиц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marL="322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ndara"/>
            </a:endParaRPr>
          </a:p>
          <a:p>
            <a:pPr marL="3222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222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222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222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 marL="3222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500" spc="-1" strike="noStrike">
                <a:solidFill>
                  <a:srgbClr val="000000"/>
                </a:solidFill>
                <a:latin typeface="Candara"/>
              </a:rPr>
              <a:t>Зависе од стадијума срчане слабости</a:t>
            </a:r>
            <a:r>
              <a:rPr b="0" i="1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Манифестације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556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Симптоми основне кардијалне болести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09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есвестица, синкопе:</a:t>
            </a:r>
            <a:r>
              <a:rPr b="0" i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ритмије, аортна стеноза, кардиомиопатија, о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трукциј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“излаза”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есн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леве комор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Болови</a:t>
            </a:r>
            <a:r>
              <a:rPr b="0" i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i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грудима: коронарна болест срца, аортне ман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митралне мане,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ХТ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 плућна хипертензиј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исхемијска кардиомиопатиј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Лупање срца: аритмије, аортн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митрална стеноз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Различити клинички облици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одела по дужини трајања манифестациј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Хронична СИ: поремећаји функције срц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настају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унутар неколико недеља до месец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кутна СИ: кардијални функционални поремећаји се развијају унутар неколико минута до сат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одела по локализациј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лабост левог срц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лабост десног срц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истолн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/д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ијастолн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слабост срц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Систолна</a:t>
            </a: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/д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ијастолна</a:t>
            </a: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 слабост срц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Систолна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нсуфицијенциј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едовољ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снаг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рча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ог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мишић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да се згрчи и испумпа довољну количину крви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Пад удар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ог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волуме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срц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јекциона фракциј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40%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Може настати услед исхемије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инфаркта срц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дилатативне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кардиомиопатиј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е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Дијастолна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нсуфицијенциј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онтр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кција срца, 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јекциона фракциј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нормал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лаксациј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пуњење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комор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бнормал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 (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не улази довољна количина крви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Јавља се код хипертрофије срца, исхемије, фиброзе, констриктивног перикардитис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Дијагностика 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КГ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Лабораторија 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ККС, 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серумски електролити,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ензими јетре, 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параметри 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бубрежн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 функциј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е, 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хормони штитасте жлезде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ТГ снимак срца и плу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хокардиографиј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вазив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дијагности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а </a:t>
            </a:r>
            <a:r>
              <a:rPr b="0" i="1" lang="sr-CS" sz="25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i="1" lang="sr-Latn-CS" sz="2500" spc="-1" strike="noStrike">
                <a:solidFill>
                  <a:srgbClr val="000000"/>
                </a:solidFill>
                <a:latin typeface="Candara"/>
              </a:rPr>
              <a:t>Катетеризација срца</a:t>
            </a:r>
            <a:r>
              <a:rPr b="0" i="1" lang="sr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i="1" lang="sr-Latn-CS" sz="2500" spc="-1" strike="noStrike">
                <a:solidFill>
                  <a:srgbClr val="000000"/>
                </a:solidFill>
                <a:latin typeface="Candara"/>
              </a:rPr>
              <a:t>Селективна коронарографија</a:t>
            </a:r>
            <a:r>
              <a:rPr b="0" i="1" lang="sr-CS" sz="2500" spc="-1" strike="noStrike">
                <a:solidFill>
                  <a:srgbClr val="000000"/>
                </a:solidFill>
                <a:latin typeface="Candara"/>
              </a:rPr>
              <a:t>...)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609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Циљ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еви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лечења срчане инсуфицијенције 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мањење симптоматологије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обољшање функције срц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мањење морталитет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Нефармаколошки приступ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Опште мере: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105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Редукација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уно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с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соли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користит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калијумову со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KCl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105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Смањ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ењ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унос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течности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105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Редукациј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телес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тежи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(код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гојазни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х пацијената)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105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Преста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к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пуш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ења цигарет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105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Ф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изичк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актив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ост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: код декомпензоване срчане слабости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мировање. Код компензоване срчане слабости: пацијенти морају бити асимптоматични и добро толерисати телесно оптерећење. Корисн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је адекватн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телесна активност код стабилне СИ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105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Избегав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ње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кард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токсич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х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и кардиодепресив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х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леков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105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Днев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контрол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телесне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тежине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105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Никако: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леков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који задржавају со у организму (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НСАИЛ,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корт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костероиди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Фармаколошки приступ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09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Ранија размишљања: базичн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узрок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И -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неадекватна пумпна функција срц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д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игокси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терапијск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аме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темељац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ктуелни ставови: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хроничн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резултат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је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лошег дејства компензаторних механизама организма →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лечење срчане слабости усмер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т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њихов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ој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блокад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утна срчана инсуфицијенциј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мањити предоптерећење (preload) срца, накнадно оптерећење (аfterload) и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имењиват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леков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који јачају снагу срчане контракциј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АЦЕ инхибитори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Блокирају ензим који конвертује ангиотензин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у ангиотензин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I и целу каскаду у синтези до алдостерона, спречавајући тако пораст периферног отпора и ретенцију соли и воде - прекидају “зачарани круг”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мањују периферни отпор, смањују притисак у десној преткомори, повећавају ејекциону фракцију, смањују димензије леве комор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Каптоприл, еналаприл, рамиприл, лизиноприл..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обољшавају симптоме, повећавају толеранцију напор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родужавају преживљавањ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Лечење започиње малом дозом, која се постепено коригује до оптималног/максималног ефект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имптоматска СИ због систолне дисфункције леве коморе: неопходни су АЦЕ инхибитори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АЦЕ инхибитори - нежељена дејства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719000"/>
            <a:ext cx="83534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Хипотенз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ув кашаљ и ангиоедем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ораст вредности креатинина и К</a:t>
            </a:r>
            <a:r>
              <a:rPr b="0" lang="sr-CS" sz="2600" spc="-1" strike="noStrike" baseline="30000">
                <a:solidFill>
                  <a:srgbClr val="000000"/>
                </a:solidFill>
                <a:latin typeface="Candara"/>
              </a:rPr>
              <a:t>+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Функцију бубрега и серумски К</a:t>
            </a:r>
            <a:r>
              <a:rPr b="0" lang="sr-CS" sz="2100" spc="-1" strike="noStrike" baseline="30000">
                <a:solidFill>
                  <a:srgbClr val="000000"/>
                </a:solidFill>
                <a:latin typeface="Candara"/>
              </a:rPr>
              <a:t>+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пратити у почетку током 1-2 недеље, а потом на 3 месец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100" spc="-1" strike="noStrike">
                <a:solidFill>
                  <a:srgbClr val="000000"/>
                </a:solidFill>
                <a:latin typeface="Candara"/>
              </a:rPr>
              <a:t>Избегавати истовремену примену АЦЕ инхибитора (као и комбинацију са диуретицима) и НСАИЛ </a:t>
            </a:r>
            <a:r>
              <a:rPr b="0" i="1" lang="sr-Latn-CS" sz="21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i="1" lang="sr-CS" sz="2100" spc="-1" strike="noStrike">
                <a:solidFill>
                  <a:srgbClr val="000000"/>
                </a:solidFill>
                <a:latin typeface="Candara"/>
              </a:rPr>
              <a:t> могућ развој акутне бубрежне инсуфицијенције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СРЧАНА ИНСУФИЦИЈЕНЦИЈА (СИ)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атофизиолошко стање које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е одликуј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неспособно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шћу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срца д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под условом да је венски доток крви срцу нормала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 истискуј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одговарајућу количину крви којом би се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сразмерно физичкој активност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задовољиле потребе организма за кисеоником и енергетским материјам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Бета блокат</a:t>
            </a: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ри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920" y="1555920"/>
            <a:ext cx="8362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тите срце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од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штетн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х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ефек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повишеног тонуса симпатикус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мањују срчану фреквенцу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повећава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перфузија срчаног мишић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Остварују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пораст ејекционе фракције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мањују увећану леву комору инхибирањем штетног дејства катехоламина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Редукују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морталитет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Рутинска примена код д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исфункције леве коморе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репоруке: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карведилол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бисопролол,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метопролол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Почиње се са врло малим дозам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ndara"/>
              </a:rPr>
              <a:t>а потом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постепено повећав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ти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водећи рачуна о подношљивости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)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до постизања жељеног терапијског ефект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Бета блокатори - нежељена дејства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одношљивост бета блокатора: веома добр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мор и слабост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Ретенција течности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радикард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Хипотенз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ронхоспазам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Диуретици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Значајн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у терапији симптоматске СИ са ретенцијом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те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ност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манифестује се као плу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на конгестија или периферни едем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Смањ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ј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венск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прилив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Смањ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ј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едем, величи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срц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обољшавају функцију миокарда, симптоме и толеранцију напор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мањују морталитет - ?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4920" y="170136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Блага СИ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тиазидн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диурети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редње тешк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/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тешк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СИ: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диуретици Хенлеове петље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СИ + одмакла инсуфицијенција бубрег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(гломеруларна филтрација &lt; 25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ml/min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- диуретици Хенлеове петљ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Мет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олаз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он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користи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кад предходни лекови н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делују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додаје се диуретицима Хенлеове петљ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Диуретик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к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бин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оват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са АЦ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инхибиторим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Диуретике који штеде калијум увести</a:t>
            </a:r>
            <a:r>
              <a:rPr b="0" lang="sr-R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у терапију СИ само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уколико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с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хипокалијемија одржава упркос АЦЕ инхибиторима или у слу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ајевим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NYHA III-IV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Диуретици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Диуретици - нежељена дејства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647360"/>
            <a:ext cx="83534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Хипотенз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Метаболичка алкалоза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реренална азотем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Хипокалемија и хипомагнезијем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Хипергликемија, хиперурикем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1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i="1" lang="sr-Latn-CS" sz="2100" spc="-1" strike="noStrike">
                <a:solidFill>
                  <a:srgbClr val="000000"/>
                </a:solidFill>
                <a:latin typeface="Candara"/>
              </a:rPr>
              <a:t>ретерана употреба диуретика може довести</a:t>
            </a:r>
            <a:r>
              <a:rPr b="0" i="1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sr-Latn-CS" sz="2100" spc="-1" strike="noStrike">
                <a:solidFill>
                  <a:srgbClr val="000000"/>
                </a:solidFill>
                <a:latin typeface="Candara"/>
              </a:rPr>
              <a:t>до тромбоемболијских компликација</a:t>
            </a:r>
            <a:r>
              <a:rPr b="0" i="1" lang="sr-CS" sz="21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0" i="1" lang="sr-Latn-CS" sz="2100" spc="-1" strike="noStrike">
                <a:solidFill>
                  <a:srgbClr val="000000"/>
                </a:solidFill>
                <a:latin typeface="Candara"/>
              </a:rPr>
              <a:t> погоршања бубрежне функције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Антагонисти рецептора алдостерона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Блокада алдостерон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мањење фиброзе миокарда и крвних судов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блажавање дисфункције барорефлекс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нални ефекти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епоручују се у узнапредовалој С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(NYHA III-IV)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ао додатак диуретицима и АЦЕ инхибиторима (смањују морбидитет и побољшавају преживљавање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атити вредност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алијум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ерумског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креатинин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пиронолактон, еплеренон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Хиперкалем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пиронолактон: могућа гинекомастија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(10% пацијената)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обуставит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терапију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Антагонисти рецептора алдостерона - </a:t>
            </a: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Блокатори рецептора за ангиотензин II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Блокирају рецепторе АТ1 (у корелацији са хипертрофијом и ремоделовањем) и појачавају активацију АТ2 рецептора (изазивајући вазодилатацију)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Лосартан, валсартан, телмисартан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лична ефикасност као АЦ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нхибитори, мање нежељених ефеката (првенствено кашаљ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имењују се уколико се АЦЕ инхибитори не поднос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Блокатори рецептора за ангиотензин II - нежељена дејств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Хипотенз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Хиперкалем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огоршање функције бубрег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ардиотоничн</a:t>
            </a: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 гликози</a:t>
            </a: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д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овећ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вају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снаг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срчане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контракције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- корекциј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енд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дијастолног волумена,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ејекционе фракције леве коморе и поновно успостављањe периферне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циркулације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нхибирају Н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Candara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-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Candara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- АТП-азу у миоцитима и аферентним влакнима вагус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мањују реапсорпцију Н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Candara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у тубулима бубрег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мањују хоспитализацију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Дигоксин и дигитоксин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Дигоксин се излучује путем бубрега, дигитоксин се метаболише у јетри (може се користити у случајевима дисфункције бубрега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римена кардиотоника у лечењу СИ: у комбинацији са АЦЕ инхибиторима и диуретицим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ЕТИОЛОГИЈ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И никад није изолован ентитет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оже бити узрокована: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исфункцијом миокард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ритмијама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В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лвуларним абнормалностим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или погоршана: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кутном исхемијом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немијом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еналном или тироидном дисфункци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ј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ом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ај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еш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а обољења која могу довести до СИ: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ртеријска хипертензиј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бољења коронарних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артериј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алвуларне мане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821844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Дигоксин - нежељена дејства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62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ctr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ритмиј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ctr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оремећаји вид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ctr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Гастроинтестиналне тегоб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649"/>
              </a:spcBef>
              <a:buNone/>
              <a:tabLst>
                <a:tab algn="ctr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ctr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ctr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ctr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Контраиндикације: брадикардија, АВ-блок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II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и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III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степена, синдром болесног синусног чвора, хипокалијемија и хиперкалцијемија</a:t>
            </a:r>
            <a:r>
              <a:rPr b="1" lang="sr-CS" sz="2600" spc="-1" strike="noStrike">
                <a:solidFill>
                  <a:srgbClr val="3e6a8e"/>
                </a:solidFill>
                <a:latin typeface="Candara"/>
              </a:rPr>
              <a:t>  </a:t>
            </a:r>
            <a:r>
              <a:rPr b="1" lang="sr-CS" sz="2600" spc="-1" strike="noStrike">
                <a:solidFill>
                  <a:srgbClr val="3e6a8e"/>
                </a:solidFill>
                <a:latin typeface="Candar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649"/>
              </a:spcBef>
              <a:buNone/>
              <a:tabLst>
                <a:tab algn="ctr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Хидралазин + изосорбид динитрат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6320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Хидралазин - артеријски вазодилататор који смањује периферни отпор - </a:t>
            </a:r>
            <a:r>
              <a:rPr b="0" i="1" lang="sr-Latn-CS" sz="2500" spc="-1" strike="noStrike">
                <a:solidFill>
                  <a:srgbClr val="000000"/>
                </a:solidFill>
                <a:latin typeface="Candara"/>
              </a:rPr>
              <a:t>afterload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нитрати - истовремено и венски вазодилататори који смањују и прилив крви у срце - </a:t>
            </a:r>
            <a:r>
              <a:rPr b="0" i="1" lang="sr-Latn-CS" sz="2500" spc="-1" strike="noStrike">
                <a:solidFill>
                  <a:srgbClr val="000000"/>
                </a:solidFill>
                <a:latin typeface="Candara"/>
              </a:rPr>
              <a:t>preload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одужавају преживљавање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е постоје докази о повољним ефектима кад се користи само нитрат или само хидралазин уз осталу терапију СИ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Рани развој хемодинамске толеранције на нитрате мањи је кад се дају у интервалима од 8-12 часова или заједно са АЦЕ инхибиторим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Статин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CORONA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тудија, 5011 болесника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NYHA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клас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II–IV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схемијске етиологиј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ЕФЛК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≤40%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 старости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≥60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римена росувастатина није удружена са смањењем кардиоваскуларне смртности/ нефаталног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нфаркта миокарда/нефаталног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можданог удара, као ни смањењем укупног морталитета, али је у корелацији са редукцијом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број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хоспитализација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кардиоваскуларне етиологиј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GISSI-HF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тудиј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4574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NYHA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клас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II–IV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ЕФЛК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≤40%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: примена росувастатина уз стандардну терапију АЦЕИ/АРБ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(94%)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бета блокатором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(6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%)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 спиронолактоном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(40%)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није забележено смањење укупног морталитета нити броја хоспитализациј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**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sr-CS" sz="1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11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*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Kjekshus J et al. Rosuvastatin in older patients with systolic heart failure. N Engl J Med 2007;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357: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2248–61.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**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Tavazzi L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et al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 Effect of rosuvastatin in patients with chronic heart failure (the GISSI-HF trial): a randomised,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double-blind, placebocontrolled trial. Lancet 2008;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372:</a:t>
            </a:r>
            <a:r>
              <a:rPr b="0" lang="sr-CS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ndara"/>
              </a:rPr>
              <a:t>1231–9.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Лекови који погоршавају СИ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609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Кортикостероиди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Трициклични антидепресиви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САИЛ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локатори канала за калцијум (верапамил, дилтиазем, нифедипин)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Литијум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622080"/>
            <a:ext cx="856908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New York Heart Association</a:t>
            </a: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NYHA</a:t>
            </a: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) класификациј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538280"/>
            <a:ext cx="83534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ndara"/>
              </a:rPr>
              <a:t>СТАДИЈУМ </a:t>
            </a:r>
            <a:r>
              <a:rPr b="1" lang="sr-Latn-CS" sz="22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Физичка активност није ограничен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симптоматски пацијенти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ри свакодневним активностим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ndara"/>
              </a:rPr>
              <a:t>СТАДИЈУМ </a:t>
            </a:r>
            <a:r>
              <a:rPr b="1" lang="sr-Latn-CS" sz="2200" spc="-1" strike="noStrike">
                <a:solidFill>
                  <a:srgbClr val="000000"/>
                </a:solidFill>
                <a:latin typeface="Candara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Благо ограничење физичк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aктивности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- симптоми се јављају при умереној активности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ndara"/>
              </a:rPr>
              <a:t>СТАДИЈУМ </a:t>
            </a:r>
            <a:r>
              <a:rPr b="1" lang="sr-Latn-CS" sz="2200" spc="-1" strike="noStrike">
                <a:solidFill>
                  <a:srgbClr val="000000"/>
                </a:solidFill>
                <a:latin typeface="Candara"/>
              </a:rPr>
              <a:t>III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Изражено ограничење физичке aктивности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- симптоми се јављају при благој активности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(болесник се добро осећа само у миру)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ndara"/>
              </a:rPr>
              <a:t>СТАДИЈУМ </a:t>
            </a:r>
            <a:r>
              <a:rPr b="1" lang="sr-Latn-CS" sz="2200" spc="-1" strike="noStrike">
                <a:solidFill>
                  <a:srgbClr val="000000"/>
                </a:solidFill>
                <a:latin typeface="Candara"/>
              </a:rPr>
              <a:t>IV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Немогућност извођења физичких активности без нелагодности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- симптоми се јављају и у мировању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80% пацијената који се хоспитализују ради СИ старији су од 65 годин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Прогноза у акутном стадијуму зависи од основне срчане болести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ето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годишња смртност у хроничном стадијуму: NYHA I и II 10-20%, NYHA III 50-70%, NYHA IV 70-90%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5560" y="195120"/>
            <a:ext cx="821844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рчан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 инсуфицијенциј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а - С</a:t>
            </a:r>
            <a:r>
              <a:rPr b="1" i="1" lang="sr-Latn-CS" sz="3300" spc="-1" strike="noStrike">
                <a:solidFill>
                  <a:srgbClr val="000000"/>
                </a:solidFill>
                <a:latin typeface="Candara"/>
              </a:rPr>
              <a:t>irculus vitiosus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2184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Када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је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срце слаб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и не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довољно ефикасно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умп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крв у артеријски систем, крв заостаје у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коморама → повећав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с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е</a:t>
            </a:r>
            <a:r>
              <a:rPr b="0" i="1" lang="sr-Latn-CS" sz="2600" spc="-1" strike="noStrike">
                <a:solidFill>
                  <a:srgbClr val="000000"/>
                </a:solidFill>
                <a:latin typeface="Candara"/>
              </a:rPr>
              <a:t>нд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i="1" lang="sr-Latn-CS" sz="2600" spc="-1" strike="noStrike">
                <a:solidFill>
                  <a:srgbClr val="000000"/>
                </a:solidFill>
                <a:latin typeface="Candara"/>
              </a:rPr>
              <a:t>дијастолни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притисак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ктивациј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компензатор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х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механизм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 (услед с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мање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ог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минутног волумена срц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)                       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Candara"/>
              </a:rPr>
              <a:t>Иницијално корисно, на дужи рок</a:t>
            </a:r>
            <a:r>
              <a:rPr b="0" i="1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i="1" lang="en-US" sz="2600" spc="-1" strike="noStrike">
                <a:solidFill>
                  <a:srgbClr val="000000"/>
                </a:solidFill>
                <a:latin typeface="Candara"/>
              </a:rPr>
              <a:t> штетне последице</a:t>
            </a:r>
            <a:r>
              <a:rPr b="0" i="1" lang="sr-Latn-CS" sz="2600" spc="-1" strike="noStrike">
                <a:solidFill>
                  <a:srgbClr val="000000"/>
                </a:solidFill>
                <a:latin typeface="Candara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373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еурохуморални механизм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адаптациј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Повећање тонуса симпатикус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убрз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њ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срчан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ог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ритм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 (повећање количине крви која се испумпа из срца у току једног минута)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повећ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њ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периферн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ог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отпор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На нивоу јукстагломеруларног апарата и бубрег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повећ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но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лучења ренина, синтез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ангиотензина II и алдостерон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Надражај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барорецептор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лучење вазопресина (антидиуретског хормона) из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неурохипофизе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Повећање периферног отпора и волемиј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 дод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тно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оптерећ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ење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срц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→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убрз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њ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даљег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пропадањ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556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рчан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 инсуфицијенциј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а - С</a:t>
            </a:r>
            <a:r>
              <a:rPr b="1" i="1" lang="sr-Latn-CS" sz="3300" spc="-1" strike="noStrike">
                <a:solidFill>
                  <a:srgbClr val="000000"/>
                </a:solidFill>
                <a:latin typeface="Candara"/>
              </a:rPr>
              <a:t>irculus vitiosus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Срчана адаптација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рчана комора се увећава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(како би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прихватила што већу количину крв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и снажно се грчи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(како б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испумпала више крв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→ ремоделовањ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срчаног мишић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хипертроф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ја и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дилатациј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)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рчан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 инсуфицијенциј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а - С</a:t>
            </a:r>
            <a:r>
              <a:rPr b="1" i="1" lang="sr-Latn-CS" sz="3300" spc="-1" strike="noStrike">
                <a:solidFill>
                  <a:srgbClr val="000000"/>
                </a:solidFill>
                <a:latin typeface="Candara"/>
              </a:rPr>
              <a:t>irculus vitiosus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5560" y="76464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Манифестације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536480"/>
            <a:ext cx="82915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Отежано дисањ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Слабост левог срца → крв се задржава у плућима →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поремећај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дисањ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емогућност лежања на равном, без узглавља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ароксизмално ноћно гушење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- “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срчана астма”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Отоци (едеми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ерифер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на в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азоконстикција →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раст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хидростатског притиска у капиларима → повећ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њ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количи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међућелијске течности → едем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лабост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левог срца → едем плућа, плеурални излив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искашљавање крв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лабост десног срца →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отоци око глежњева, на потколеницама, увећање јетре са боловима у горњем делу трбуха, мучнина, гасови у цревим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губитак апетит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Marko </cp:lastModifiedBy>
  <dcterms:modified xsi:type="dcterms:W3CDTF">2021-01-30T09:52:43Z</dcterms:modified>
  <cp:revision>861</cp:revision>
  <dc:subject>Klinicki farmakolog</dc:subject>
  <dc:title>Predavanje za sajt fakulteta</dc:title>
</cp:coreProperties>
</file>